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62A-D234-4818-AACC-40C3D706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073-4BF4-4633-93C2-7156A5BC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54C-6D35-4EAC-85A1-9477CDC0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CC2-AD9E-40CE-B993-AE6DD47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509-0C28-42E7-9711-60504E87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8B8-6E7B-40E4-9A63-4C6CAB6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B43-2713-4B39-B71A-C93BFE5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B95-4C2B-40E0-BCB1-1C5BFBF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7D2-2F72-460C-BC9A-FC074CC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ADB-0F56-44DC-BFE6-9781C97D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F17-644C-4114-8B76-BDC8C8A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DD1-997E-4B09-8ECC-B7ED749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1B84-63F2-4F8B-BE84-43BBC14F11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.webp"/>
          <p:cNvPicPr/>
          <p:nvPr/>
        </p:nvPicPr>
        <p:blipFill>
          <a:blip r:embed="rId1"/>
          <a:stretch/>
        </p:blipFill>
        <p:spPr>
          <a:xfrm>
            <a:off x="1835280" y="1123920"/>
            <a:ext cx="609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2.webp (1)"/>
          <p:cNvPicPr/>
          <p:nvPr/>
        </p:nvPicPr>
        <p:blipFill>
          <a:blip r:embed="rId1"/>
          <a:stretch/>
        </p:blipFill>
        <p:spPr>
          <a:xfrm>
            <a:off x="1763640" y="836640"/>
            <a:ext cx="6189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" descr="6.webp"/>
          <p:cNvPicPr/>
          <p:nvPr/>
        </p:nvPicPr>
        <p:blipFill>
          <a:blip r:embed="rId1"/>
          <a:stretch/>
        </p:blipFill>
        <p:spPr>
          <a:xfrm>
            <a:off x="1835280" y="1123920"/>
            <a:ext cx="57736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3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4.webp"/>
          <p:cNvPicPr/>
          <p:nvPr/>
        </p:nvPicPr>
        <p:blipFill>
          <a:blip r:embed="rId1"/>
          <a:stretch/>
        </p:blipFill>
        <p:spPr>
          <a:xfrm>
            <a:off x="1979640" y="1339920"/>
            <a:ext cx="55818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6T12:29:40Z</dcterms:created>
  <dc:creator>Administrator</dc:creator>
  <dc:description/>
  <dc:language>en-US</dc:language>
  <cp:lastModifiedBy>卖女柴的小火孩</cp:lastModifiedBy>
  <dcterms:modified xsi:type="dcterms:W3CDTF">2022-05-16T12:29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D8520959DF7426385FFC9AF5D52B734</vt:lpwstr>
  </property>
  <property fmtid="{D5CDD505-2E9C-101B-9397-08002B2CF9AE}" pid="3" name="KSOProductBuildVer">
    <vt:lpwstr>2052-11.1.0.11691</vt:lpwstr>
  </property>
</Properties>
</file>