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480-77B0-437E-A3A9-3BB2F0F4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BB9-3807-40D8-9A1C-756C717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785-F8FD-4823-BB68-7457FAAA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617-65D9-4348-961F-445FD507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A9C-0446-499D-A577-EF5DCB5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216-DE8B-468D-B925-0E3CD7F2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306-4D14-47CD-B4D8-F9780B2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132-21D9-449E-A67C-1CAF56DE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306-043E-4D32-A014-6F3716AB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11E-B91F-4CAC-A0BF-DA711272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B15-2BAF-4110-BFDD-C8EB7EC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35C-B1FC-45C3-9FB7-5AFBEB77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8E4E-7978-4C3F-B283-F473FD251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1.webp"/>
          <p:cNvPicPr/>
          <p:nvPr/>
        </p:nvPicPr>
        <p:blipFill>
          <a:blip r:embed="rId1"/>
          <a:stretch/>
        </p:blipFill>
        <p:spPr>
          <a:xfrm>
            <a:off x="1835280" y="1123920"/>
            <a:ext cx="609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2.webp (1)"/>
          <p:cNvPicPr/>
          <p:nvPr/>
        </p:nvPicPr>
        <p:blipFill>
          <a:blip r:embed="rId1"/>
          <a:stretch/>
        </p:blipFill>
        <p:spPr>
          <a:xfrm>
            <a:off x="1763640" y="836640"/>
            <a:ext cx="61898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" descr="6.webp"/>
          <p:cNvPicPr/>
          <p:nvPr/>
        </p:nvPicPr>
        <p:blipFill>
          <a:blip r:embed="rId1"/>
          <a:stretch/>
        </p:blipFill>
        <p:spPr>
          <a:xfrm>
            <a:off x="1835280" y="1123920"/>
            <a:ext cx="57736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3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4.webp"/>
          <p:cNvPicPr/>
          <p:nvPr/>
        </p:nvPicPr>
        <p:blipFill>
          <a:blip r:embed="rId1"/>
          <a:stretch/>
        </p:blipFill>
        <p:spPr>
          <a:xfrm>
            <a:off x="1979640" y="1339920"/>
            <a:ext cx="55818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6T12:29:40Z</dcterms:created>
  <dc:creator>Administrator</dc:creator>
  <dc:description/>
  <dc:language>en-US</dc:language>
  <cp:lastModifiedBy>卖女柴的小火孩</cp:lastModifiedBy>
  <dcterms:modified xsi:type="dcterms:W3CDTF">2022-05-16T12:29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D8520959DF7426385FFC9AF5D52B734</vt:lpwstr>
  </property>
  <property fmtid="{D5CDD505-2E9C-101B-9397-08002B2CF9AE}" pid="3" name="KSOProductBuildVer">
    <vt:lpwstr>2052-11.1.0.11691</vt:lpwstr>
  </property>
</Properties>
</file>